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7D3-DB6B-446C-8817-30950806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CBF-DF47-427F-924B-12A3943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C19-9275-4410-A08D-674DDCAA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F20-B178-40F7-B4D7-E3F55B2D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E52-A534-442C-B298-DD4DDC64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DC3-DFF8-48F9-8C01-8D4B1C35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27B-B6E6-4C81-817D-9001F9EA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853-DF22-4BEB-BE78-0D38F4D5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2B0-326A-4AC6-B5FA-8C21F1A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EEB-BFEC-4BC5-944B-42687F9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691-EB90-4080-99CA-E4B4C73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BB8-4E1E-4D53-AE98-5367BE2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45B4-40B5-43DB-AFD2-8D1297A33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6 Kto s tebou, Pane, bud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úprimnosti ch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žnemu kto neušk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zástancom je prav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a nedopúšťa zra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n sa bude sm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rad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blížnych háji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mu, čo jeho,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 v tomto žitia 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íťazí vždy v Ducha zbroj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n sa bude smi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rado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26:48Z</dcterms:modified>
  <cp:revision>23</cp:revision>
  <dc:subject/>
  <dc:title>Je veľký náš Pán, on slávy je Kráľ Nech do všetkých strán  spev vrúcnych znie chvál.</dc:title>
</cp:coreProperties>
</file>